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BE03F-2275-4FD1-B98F-EEDC07337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8D89F-234D-4F71-BDF8-6A9E5AC6E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Let all ”non-players” view the ”role play” and provide constructive criscsism to the players after end of s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48650-8BDF-4EB3-BFA0-8C7B50774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01D8F-3EA0-4C56-8050-E0355BAFDC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Use Red Cross Red Crescent </a:t>
            </a: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influenc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to advocate for adaptation funds, not only to cover the protection of infrastructure (which is importan, but also too easy a default option for political and administrative actors), but to make sure funding also finds its way to vulnerable people and communities to help them adapt to new circum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C719A-66AF-4225-AC2E-F92FA38B24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FB81-CB87-418B-AC37-6AD2E9A4EC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A641-ED96-4FEA-B3F8-4D4BE5B428C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A309B-3C1D-4015-A5CC-533BE2E629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8476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9C353-4ABB-40FF-A997-73C4B0C1BC4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71D1-9E6C-4925-8FF4-24DE1F6EB6D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0A848-C38A-4492-8EA6-4CC8E5517E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388476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76E17-FBFC-4420-BCDE-14518663803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9D59-E481-4EF9-8BB4-F299E508288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81EBA-ED0F-4D54-88D8-D6125024B1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388476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5F72F-3EBE-457E-8810-285DD17F393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0F5-983B-4C91-A83F-E6FB6BD062F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B3C8A-87E2-47BE-B3F3-0AAE63EC33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"/>
          <p:cNvSpPr/>
          <p:nvPr/>
        </p:nvSpPr>
        <p:spPr>
          <a:xfrm>
            <a:off x="388476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FB127-C72C-4D26-AEEA-AF59A3850D5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7"/>
          <p:cNvSpPr/>
          <p:nvPr/>
        </p:nvSpPr>
        <p:spPr>
          <a:xfrm>
            <a:off x="4191120" y="6629400"/>
            <a:ext cx="466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 Regular"/>
              </a:rPr>
              <a:t>Climate Training Kit. Module 3 –  Policy and communication: 3a. 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National Adaptation Plan and ND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4" descr="cc_koffer.ai"/>
          <p:cNvPicPr/>
          <p:nvPr/>
        </p:nvPicPr>
        <p:blipFill>
          <a:blip r:embed="rId2"/>
          <a:stretch/>
        </p:blipFill>
        <p:spPr>
          <a:xfrm>
            <a:off x="8852040" y="6653160"/>
            <a:ext cx="21744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3"/>
          <a:stretch/>
        </p:blipFill>
        <p:spPr>
          <a:xfrm>
            <a:off x="6480" y="6524640"/>
            <a:ext cx="80172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4191120" y="6629400"/>
            <a:ext cx="466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 Regular"/>
              </a:rPr>
              <a:t>Climate Training Kit. Module 3 –  Policy and communication: 3a. 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National Adaptation Plan and ND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4" descr="cc_koffer.ai"/>
          <p:cNvPicPr/>
          <p:nvPr/>
        </p:nvPicPr>
        <p:blipFill>
          <a:blip r:embed="rId2"/>
          <a:stretch/>
        </p:blipFill>
        <p:spPr>
          <a:xfrm>
            <a:off x="8852040" y="6653160"/>
            <a:ext cx="217440" cy="1713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/>
          <p:cNvPicPr/>
          <p:nvPr/>
        </p:nvPicPr>
        <p:blipFill>
          <a:blip r:embed="rId3"/>
          <a:stretch/>
        </p:blipFill>
        <p:spPr>
          <a:xfrm>
            <a:off x="6480" y="6524640"/>
            <a:ext cx="80172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4191120" y="6629400"/>
            <a:ext cx="466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 Regular"/>
              </a:rPr>
              <a:t>Climate Training Kit. Module 3 –  Policy and communication: 3a. 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National Adaptation Plan and ND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cc_koffer.ai"/>
          <p:cNvPicPr/>
          <p:nvPr/>
        </p:nvPicPr>
        <p:blipFill>
          <a:blip r:embed="rId2"/>
          <a:stretch/>
        </p:blipFill>
        <p:spPr>
          <a:xfrm>
            <a:off x="8852040" y="6653160"/>
            <a:ext cx="217440" cy="17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480" y="6524640"/>
            <a:ext cx="80172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4"/>
          <p:cNvSpPr/>
          <p:nvPr/>
        </p:nvSpPr>
        <p:spPr>
          <a:xfrm>
            <a:off x="4191120" y="6629400"/>
            <a:ext cx="466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 Regular"/>
              </a:rPr>
              <a:t>Climate Training Kit. Module 3 –  Policy and communication: 3a. 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National Adaptation Plan and ND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4" descr="cc_koffer.ai"/>
          <p:cNvPicPr/>
          <p:nvPr/>
        </p:nvPicPr>
        <p:blipFill>
          <a:blip r:embed="rId2"/>
          <a:stretch/>
        </p:blipFill>
        <p:spPr>
          <a:xfrm>
            <a:off x="8852040" y="6653160"/>
            <a:ext cx="217440" cy="17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6480" y="6524640"/>
            <a:ext cx="801720" cy="325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CE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CE"/>
              </a:rPr>
              <a:t>Third Outline Level</a:t>
            </a:r>
            <a:endParaRPr b="0" i="1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E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4" marL="2057400" indent="-228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E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5" marL="2057400" indent="-228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E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  <a:p>
            <a:pPr lvl="6" marL="2057400" indent="-2286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E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258920" y="404640"/>
            <a:ext cx="797256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gaging in national adaptation pl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nitarian Diplomacy on climate chang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Exercise 5: Role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1332000" y="2924280"/>
            <a:ext cx="7843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floods"/>
          <p:cNvPicPr/>
          <p:nvPr/>
        </p:nvPicPr>
        <p:blipFill>
          <a:blip r:embed="rId1"/>
          <a:stretch/>
        </p:blipFill>
        <p:spPr>
          <a:xfrm>
            <a:off x="1325520" y="4033800"/>
            <a:ext cx="2462400" cy="17496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kstvak 13"/>
          <p:cNvSpPr/>
          <p:nvPr/>
        </p:nvSpPr>
        <p:spPr>
          <a:xfrm>
            <a:off x="1274760" y="5643720"/>
            <a:ext cx="1928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Photo: Netherlands Red Cros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" descr="climate-kit-logo.jpg"/>
          <p:cNvPicPr/>
          <p:nvPr/>
        </p:nvPicPr>
        <p:blipFill>
          <a:blip r:embed="rId2"/>
          <a:stretch/>
        </p:blipFill>
        <p:spPr>
          <a:xfrm>
            <a:off x="1332000" y="3068640"/>
            <a:ext cx="2003400" cy="673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10 Mangrove tree planting 01"/>
          <p:cNvPicPr/>
          <p:nvPr/>
        </p:nvPicPr>
        <p:blipFill>
          <a:blip r:embed="rId3"/>
          <a:stretch/>
        </p:blipFill>
        <p:spPr>
          <a:xfrm>
            <a:off x="3790800" y="4038480"/>
            <a:ext cx="3422880" cy="1744920"/>
          </a:xfrm>
          <a:prstGeom prst="rect">
            <a:avLst/>
          </a:prstGeom>
          <a:ln w="0">
            <a:noFill/>
          </a:ln>
        </p:spPr>
      </p:pic>
      <p:sp>
        <p:nvSpPr>
          <p:cNvPr id="174" name="Tekstvak 2"/>
          <p:cNvSpPr/>
          <p:nvPr/>
        </p:nvSpPr>
        <p:spPr>
          <a:xfrm>
            <a:off x="3735360" y="5649840"/>
            <a:ext cx="784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00" spc="-1" strike="noStrike">
                <a:solidFill>
                  <a:srgbClr val="ffffff"/>
                </a:solidFill>
                <a:latin typeface="Arial"/>
              </a:rPr>
              <a:t>Photo: IFR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003640" y="4214880"/>
            <a:ext cx="374508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te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y in the room: prepare for how you will receive the RC guests – and set up the meeting table/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95280" y="4208400"/>
            <a:ext cx="446400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Cross Red Crescent te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eave the room and plan your roles and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50920" y="498600"/>
            <a:ext cx="88930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noAutofit/>
          </a:bodyPr>
          <a:p>
            <a:pPr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minutes (secret) prepar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58920" y="1754280"/>
            <a:ext cx="831672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sides (NS &amp; Gov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epare for a “realistic” dialogue – and practice you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5 minutes preparations: two role plays with the “Other” teams as observers (HQ observes Branch Role Play, and vice ver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1"/>
          <p:cNvSpPr/>
          <p:nvPr/>
        </p:nvSpPr>
        <p:spPr>
          <a:xfrm>
            <a:off x="324000" y="214200"/>
            <a:ext cx="882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Remember: engage in adaptation policy dialogue and 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2"/>
          <a:stretch/>
        </p:blipFill>
        <p:spPr>
          <a:xfrm>
            <a:off x="4813200" y="3260880"/>
            <a:ext cx="4102200" cy="3240000"/>
          </a:xfrm>
          <a:prstGeom prst="rect">
            <a:avLst/>
          </a:prstGeom>
          <a:ln w="22320">
            <a:solidFill>
              <a:srgbClr val="eeece1"/>
            </a:solidFill>
            <a:miter/>
          </a:ln>
        </p:spPr>
      </p:pic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4101840" cy="3166920"/>
          </a:xfrm>
          <a:prstGeom prst="rect">
            <a:avLst/>
          </a:prstGeom>
          <a:ln w="22320">
            <a:solidFill>
              <a:srgbClr val="eeece1"/>
            </a:solidFill>
            <a:miter/>
          </a:ln>
        </p:spPr>
      </p:pic>
      <p:sp>
        <p:nvSpPr>
          <p:cNvPr id="179" name="Text Box 8"/>
          <p:cNvSpPr/>
          <p:nvPr/>
        </p:nvSpPr>
        <p:spPr>
          <a:xfrm>
            <a:off x="8453160" y="6426360"/>
            <a:ext cx="74808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400" spc="-1" strike="noStrike">
                <a:solidFill>
                  <a:srgbClr val="ffffff"/>
                </a:solidFill>
                <a:latin typeface="Arial"/>
              </a:rPr>
              <a:t>Photos: Danish Red Cros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79280" y="1125360"/>
            <a:ext cx="86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...otherwise risk funding may go to only protect important infrastructure and maybe not reach vulnerable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tel 1"/>
          <p:cNvSpPr/>
          <p:nvPr/>
        </p:nvSpPr>
        <p:spPr>
          <a:xfrm>
            <a:off x="466560" y="515880"/>
            <a:ext cx="7705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points in advocacy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228600" y="1600200"/>
            <a:ext cx="86216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 clear on your ask and know your facts – have a strong evidenc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message should be persua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good advocacy message should have 3  basic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redi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– you come from a credible organisation and br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mo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– use a human, real-life cas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g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–  make sure your message makes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 aware of power dynamics and behaviour – status, roles and body language o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Movement credibility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1920" y="1744560"/>
            <a:ext cx="42400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sence in 191 countr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uxiliary to govern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sence throughout the count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y-based organis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7 fundamental principles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ssists  millions of vulnerable people every year in 191 countries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381560" y="1989000"/>
            <a:ext cx="468144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50920" y="260280"/>
            <a:ext cx="8101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noAutofit/>
          </a:bodyPr>
          <a:p>
            <a:pPr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 … ROLE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File:Drama-icon.svg"/>
          <p:cNvPicPr/>
          <p:nvPr/>
        </p:nvPicPr>
        <p:blipFill>
          <a:blip r:embed="rId1"/>
          <a:stretch/>
        </p:blipFill>
        <p:spPr>
          <a:xfrm>
            <a:off x="1908000" y="9079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"/>
          <p:cNvSpPr/>
          <p:nvPr/>
        </p:nvSpPr>
        <p:spPr>
          <a:xfrm>
            <a:off x="108000" y="4616280"/>
            <a:ext cx="90360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 into 2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group will be “District / Branch lev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group will be “National leve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503280" y="2693880"/>
            <a:ext cx="7540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noAutofit/>
          </a:bodyPr>
          <a:p>
            <a:pPr marL="836640" indent="-835200">
              <a:tabLst>
                <a:tab algn="l" pos="0"/>
                <a:tab algn="l" pos="836640"/>
                <a:tab algn="l" pos="1625760"/>
                <a:tab algn="l" pos="2414520"/>
                <a:tab algn="l" pos="3203640"/>
                <a:tab algn="l" pos="3990960"/>
                <a:tab algn="l" pos="4780080"/>
                <a:tab algn="l" pos="5568840"/>
                <a:tab algn="l" pos="6356520"/>
                <a:tab algn="l" pos="7145280"/>
                <a:tab algn="l" pos="7934400"/>
                <a:tab algn="l" pos="8723160"/>
                <a:tab algn="l" pos="9510840"/>
                <a:tab algn="l" pos="9601200"/>
                <a:tab algn="l" pos="10058400"/>
                <a:tab algn="l" pos="105156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08000" y="1197000"/>
            <a:ext cx="9036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checked the Government’s draft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mate Change Strate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noted that it may be a bit weak on “adaptation for vulnerable peo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noted the coming strategy and plans may be wea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rly warning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or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mate smart” disaster prepared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new extreme flood/drought events. – you have something to offer as auxiliary to your governm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National Society has now been invited to attend a meeting in the Government’s “climate change commission” (along with other stakehold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you are now working with your Secretary General to prepare for the meeting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want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Font typeface="Arial"/>
              <a:buAutoNum type="alphaL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nsure a permanent National Society seat in the advisory group to the “Climate Change Commiss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Font typeface="Arial"/>
              <a:buAutoNum type="alphaL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  <a:ea typeface="MS PGothic"/>
              </a:rPr>
              <a:t>prom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clear focus on climate-smart disaster preparedness and attention to early warnings in the final “CC Strategy” and the follow-up implementation plans (= drawing on NS experti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50920" y="260280"/>
            <a:ext cx="8101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noAutofit/>
          </a:bodyPr>
          <a:p>
            <a:pPr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 … the situa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TIO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503280" y="2693880"/>
            <a:ext cx="7540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noAutofit/>
          </a:bodyPr>
          <a:p>
            <a:pPr marL="836640" indent="-835200">
              <a:tabLst>
                <a:tab algn="l" pos="0"/>
                <a:tab algn="l" pos="836640"/>
                <a:tab algn="l" pos="1625760"/>
                <a:tab algn="l" pos="2414520"/>
                <a:tab algn="l" pos="3203640"/>
                <a:tab algn="l" pos="3990960"/>
                <a:tab algn="l" pos="4780080"/>
                <a:tab algn="l" pos="5568840"/>
                <a:tab algn="l" pos="6356520"/>
                <a:tab algn="l" pos="7145280"/>
                <a:tab algn="l" pos="7934400"/>
                <a:tab algn="l" pos="8723160"/>
                <a:tab algn="l" pos="9510840"/>
                <a:tab algn="l" pos="9601200"/>
                <a:tab algn="l" pos="10058400"/>
                <a:tab algn="l" pos="105156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08000" y="1197000"/>
            <a:ext cx="903600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reviewed the latest draft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trict Development Plan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you think does not adequately address the adaptation needs of local communities – according to what you learned in recent community V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 weeks time, your Branch Chairperson has been invited to participate in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trict Development Committ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you are now helping the Branch Chairperson and senior volunteers to prepare for the meeting, where you want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Font typeface="Arial"/>
              <a:buAutoNum type="alphaL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howcase the insights regar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han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local risk patterns and ideas for climate-smart risk reduction actions needed at communit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Font typeface="Arial"/>
              <a:buAutoNum type="alphaLcPeriod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ffer the assistance and expertise of the NS Branch (and HQ etc.) to help improving the draft District Development Plan so it better addresses consider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han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risks (and become “climate smar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0920" y="260280"/>
            <a:ext cx="8893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noAutofit/>
          </a:bodyPr>
          <a:p>
            <a:pPr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… the situa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anch/distri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95280" y="798480"/>
            <a:ext cx="8064360" cy="10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rm teams (National level) – split yourself in 2 groups:</a:t>
            </a:r>
            <a:br>
              <a:rPr sz="2200"/>
            </a:b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1 team = Red Cross / Red Crescent</a:t>
            </a:r>
            <a:br>
              <a:rPr sz="2200"/>
            </a:b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1 teams = government representativ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50920" y="210960"/>
            <a:ext cx="8893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noAutofit/>
          </a:bodyPr>
          <a:p>
            <a:pPr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: Convince you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TIO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79280" y="1916280"/>
            <a:ext cx="44640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le: “RC team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lan how you will argue for a permanent NS seat in the “CC advisory gro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ist five specific things your NS could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offer to help the Government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practical ideas that would fit into a 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ood CC Strategy</a:t>
            </a: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lan how you would argue for more attention to early warning and disaster preparedness in the com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5148360" y="1984320"/>
            <a:ext cx="374472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Black"/>
              </a:rPr>
              <a:t>Role: “Governm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Arial Black"/>
              </a:rPr>
              <a:t> team”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 Blac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 Black"/>
              </a:rPr>
              <a:t>Prepare yourself to meet RC as officials from the CC Com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y is may be difficult for you to have NS and other CSOs supporting the commi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y would you (maybe not?) want to include the adaptation aspects (EWS, DP) in CC Strate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42920" y="44280"/>
            <a:ext cx="88930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noAutofit/>
          </a:bodyPr>
          <a:p>
            <a:pPr>
              <a:tabLst>
                <a:tab algn="l" pos="0"/>
                <a:tab algn="l" pos="787320"/>
                <a:tab algn="l" pos="1576440"/>
                <a:tab algn="l" pos="2365200"/>
                <a:tab algn="l" pos="3152880"/>
                <a:tab algn="l" pos="3941640"/>
                <a:tab algn="l" pos="4730760"/>
                <a:tab algn="l" pos="5519880"/>
                <a:tab algn="l" pos="6307200"/>
                <a:tab algn="l" pos="7095960"/>
                <a:tab algn="l" pos="7885080"/>
                <a:tab algn="l" pos="86742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: Convince you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TRI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42920" y="868320"/>
            <a:ext cx="8893080" cy="10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rm teams (District staff) – split yourself in 2 groups:</a:t>
            </a:r>
            <a:br>
              <a:rPr sz="2200"/>
            </a:b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1 team = Red Cross / Red Crescent</a:t>
            </a:r>
            <a:br>
              <a:rPr sz="2200"/>
            </a:b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1 teams = District Development 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5003640" y="2133720"/>
            <a:ext cx="392436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le: District Dev.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epare yourself to meet RC as officials from the D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y is it difficult for you to consider climate change in local plan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y would you (maybe not?) want to draw on NS experience in CC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95280" y="2095560"/>
            <a:ext cx="4464000" cy="3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40320" bIns="40320" anchor="t">
            <a:spAutoFit/>
          </a:bodyPr>
          <a:p>
            <a:pPr marL="393840" indent="-393840">
              <a:spcAft>
                <a:spcPts val="1037"/>
              </a:spcAft>
              <a:tabLst>
                <a:tab algn="l" pos="0"/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le: RC District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lan how you will use your detailed community knowledg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vince the DDC that the District Dev Plan needs to be more “climate smart” – not business 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spcAft>
                <a:spcPts val="1037"/>
              </a:spcAft>
              <a:buClr>
                <a:srgbClr val="0000cc"/>
              </a:buClr>
              <a:buFont typeface="Arial"/>
              <a:buChar char="•"/>
              <a:tabLst>
                <a:tab algn="l" pos="228600"/>
                <a:tab algn="l" pos="1017720"/>
                <a:tab algn="l" pos="1806480"/>
                <a:tab algn="l" pos="2595600"/>
                <a:tab algn="l" pos="3382920"/>
                <a:tab algn="l" pos="4172040"/>
                <a:tab algn="l" pos="4960800"/>
                <a:tab algn="l" pos="5749920"/>
                <a:tab algn="l" pos="6537240"/>
                <a:tab algn="l" pos="7326360"/>
                <a:tab algn="l" pos="8115480"/>
                <a:tab algn="l" pos="8904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NS can be a valuable partner in planning and implementation of “climate smart”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2:46:38Z</dcterms:created>
  <dc:creator>Desiree Davidse</dc:creator>
  <dc:description/>
  <dc:language>en-US</dc:language>
  <cp:lastModifiedBy>Knud Falk</cp:lastModifiedBy>
  <dcterms:modified xsi:type="dcterms:W3CDTF">2017-09-22T16:21:13Z</dcterms:modified>
  <cp:revision>759</cp:revision>
  <dc:subject/>
  <dc:title>COMMUN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C535F6629DBB54289516015594A1B8E</vt:lpwstr>
  </property>
</Properties>
</file>