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7D736-8642-42AE-ABDA-7D06B35E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586B0-9C9D-417A-AF3C-A9CC30EED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303-40C0-49DB-9E38-92E179ACF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now in 2 days been rushing through much of the preparatory work for engaging in adaptation dialo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actically, we have been going though many of the steps listed (in more detail) in the IFRC Guidance no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lthough it only mentions NAP – not NDC and sector policies – the checklists are good as quick reminders of the pro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4449-2E6D-46A4-BCAD-F0E684AB29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he simple checklist for 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F25-A047-4C13-84AE-B061DCC96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nd Step 4 – which contains the the main points to 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82F02-4554-4BB1-994B-E336F5875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7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CE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CE"/>
              </a:rPr>
              <a:t>Third Outline Level</a:t>
            </a:r>
            <a:endParaRPr b="0" i="1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5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6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258920" y="404640"/>
            <a:ext cx="797256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gaging in national adaptation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nitarian Diplomacy on climate chang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F: Simple checklist to inspire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1332000" y="2924280"/>
            <a:ext cx="7843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floods"/>
          <p:cNvPicPr/>
          <p:nvPr/>
        </p:nvPicPr>
        <p:blipFill>
          <a:blip r:embed="rId1"/>
          <a:stretch/>
        </p:blipFill>
        <p:spPr>
          <a:xfrm>
            <a:off x="1325520" y="4033800"/>
            <a:ext cx="2462400" cy="17496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kstvak 13"/>
          <p:cNvSpPr/>
          <p:nvPr/>
        </p:nvSpPr>
        <p:spPr>
          <a:xfrm>
            <a:off x="1274760" y="5643720"/>
            <a:ext cx="1928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Photo: Netherlands Red Cro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climate-kit-logo.jpg"/>
          <p:cNvPicPr/>
          <p:nvPr/>
        </p:nvPicPr>
        <p:blipFill>
          <a:blip r:embed="rId2"/>
          <a:stretch/>
        </p:blipFill>
        <p:spPr>
          <a:xfrm>
            <a:off x="1332000" y="3068640"/>
            <a:ext cx="2003400" cy="67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10 Mangrove tree planting 01"/>
          <p:cNvPicPr/>
          <p:nvPr/>
        </p:nvPicPr>
        <p:blipFill>
          <a:blip r:embed="rId3"/>
          <a:stretch/>
        </p:blipFill>
        <p:spPr>
          <a:xfrm>
            <a:off x="3790800" y="4038480"/>
            <a:ext cx="3422880" cy="1744920"/>
          </a:xfrm>
          <a:prstGeom prst="rect">
            <a:avLst/>
          </a:prstGeom>
          <a:ln w="0">
            <a:noFill/>
          </a:ln>
        </p:spPr>
      </p:pic>
      <p:sp>
        <p:nvSpPr>
          <p:cNvPr id="174" name="Tekstvak 2"/>
          <p:cNvSpPr/>
          <p:nvPr/>
        </p:nvSpPr>
        <p:spPr>
          <a:xfrm>
            <a:off x="3735360" y="5649840"/>
            <a:ext cx="784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00" spc="-1" strike="noStrike">
                <a:solidFill>
                  <a:srgbClr val="ffffff"/>
                </a:solidFill>
                <a:latin typeface="Arial"/>
              </a:rPr>
              <a:t>Photo: IFR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811800">
            <a:off x="5375160" y="1427040"/>
            <a:ext cx="3127320" cy="4321440"/>
          </a:xfrm>
          <a:prstGeom prst="rect">
            <a:avLst/>
          </a:prstGeom>
          <a:ln w="25560">
            <a:solidFill>
              <a:srgbClr val="969696"/>
            </a:solidFill>
            <a:miter/>
          </a:ln>
        </p:spPr>
      </p:pic>
      <p:sp>
        <p:nvSpPr>
          <p:cNvPr id="176" name="Titel 1"/>
          <p:cNvSpPr/>
          <p:nvPr/>
        </p:nvSpPr>
        <p:spPr>
          <a:xfrm>
            <a:off x="466560" y="515880"/>
            <a:ext cx="7705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sic checklists to insp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250920" y="2075040"/>
            <a:ext cx="4802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673200" y="169920"/>
            <a:ext cx="7318440" cy="287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305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270080" y="115920"/>
            <a:ext cx="668664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352320" y="1981080"/>
            <a:ext cx="533412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RL Guidelines for legal preparedness in disasters is a classic example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ot of work over several years – 18 new laws or regulations passed as a resul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441520" cy="342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83" name="Titel 1"/>
          <p:cNvSpPr/>
          <p:nvPr/>
        </p:nvSpPr>
        <p:spPr>
          <a:xfrm>
            <a:off x="1042920" y="549360"/>
            <a:ext cx="6986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or legislative change takes tim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tent Placeholder 2"/>
          <p:cNvSpPr/>
          <p:nvPr/>
        </p:nvSpPr>
        <p:spPr>
          <a:xfrm>
            <a:off x="3414600" y="4005360"/>
            <a:ext cx="5334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ood luck with helping shape your NAP and N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2:46:38Z</dcterms:created>
  <dc:creator>Desiree Davidse</dc:creator>
  <dc:description/>
  <dc:language>en-US</dc:language>
  <cp:lastModifiedBy>Knud Falk</cp:lastModifiedBy>
  <dcterms:modified xsi:type="dcterms:W3CDTF">2018-04-17T13:56:18Z</dcterms:modified>
  <cp:revision>772</cp:revision>
  <dc:subject/>
  <dc:title>COMMUN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C535F6629DBB54289516015594A1B8E</vt:lpwstr>
  </property>
</Properties>
</file>